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C135-90C3-4802-BB64-BB42F874A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6FC4-3740-49A9-8979-AB069DF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915E-AA92-44E6-974C-70DBD75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0CF7-C9F1-43FC-BAE9-01BE2F1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D95B-8DBB-49F8-824A-787AA367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8CA2-C147-4381-BC3E-3515D864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0FEE-D0D7-4D09-8A77-4BD426D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8B11-E4D4-49E1-8AE7-DE50204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E334-39D0-4372-A0E9-9D1A6511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7E8E-75B8-4A07-A334-84FF29E3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E1C1-0D76-4F46-884F-9587143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ACBB-7855-4522-941C-BD6469EB6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: 1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1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B8558FA1-B5FC-4320-B2B7-5E71411AB9C0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09C9-44B8-475A-ABAE-C5DD1D18B7E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2: linnad 0,2,1,3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4+2+9+3 = 18 (veidi odavam kui eelm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274320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133360" y="274320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3: linnad 0,3,2,1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3+6+2+5 = 16 (siiamaani kõige odavam te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2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057040" y="22860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2666880"/>
            <a:ext cx="236196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33360" y="541008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2666880"/>
            <a:ext cx="2514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alju teede variante üldse on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simesest linnast 3 võimalikku järgm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est linnast 2 võimalikku järgmist (kaks on käidud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lmandast linnast 1 võimalik järgmine (kolm on käidu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Kokku seega: 3*2*1= 6 varian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ga, kui linnu on 10, s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9*8*7*6*5*4*3*2*1 = 362 8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ldiselt teede arv on (linnade arvu miinus üks) faktoriaal:  (n-1)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i linnu on 100, si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99*98*...*3*2*1 = 9.3*(10 astmes 15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5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SP search tree on four ci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5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733920" y="1143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2860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86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505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5053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45720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6400" y="472428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46483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133720" y="1371600"/>
            <a:ext cx="1676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1447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1371600"/>
            <a:ext cx="15238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47920" y="2590920"/>
            <a:ext cx="3808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259092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657240" y="259092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666880"/>
            <a:ext cx="3049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638320" y="266688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2666880"/>
            <a:ext cx="3808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3886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8862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38862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8862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8862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2424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4812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43400" y="158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8124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7160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304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19720" y="272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62720" y="265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876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495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334120"/>
            <a:ext cx="38088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541008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5486400"/>
            <a:ext cx="38088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5486400"/>
            <a:ext cx="381240" cy="304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5562720"/>
            <a:ext cx="381240" cy="3045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876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4876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6320" y="38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4300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38640" y="4098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0040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96040" y="402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57800" y="4098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9960" y="685800"/>
            <a:ext cx="25398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is is an abs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ee: it is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buil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o memory, we j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ve to pass the no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 find the cheap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Brea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00200" y="762120"/>
            <a:ext cx="5613840" cy="5436000"/>
            <a:chOff x="1600200" y="762120"/>
            <a:chExt cx="5613840" cy="5436000"/>
          </a:xfrm>
        </p:grpSpPr>
        <p:sp>
          <p:nvSpPr>
            <p:cNvPr id="324" name=""/>
            <p:cNvSpPr/>
            <p:nvPr/>
          </p:nvSpPr>
          <p:spPr>
            <a:xfrm>
              <a:off x="4184640" y="7621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1304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5092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764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7024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6572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89560" y="22863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23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11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8444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655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9432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03960" y="3200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21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23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179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744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467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369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6572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75560" y="43437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21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179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744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46760" y="525816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88880" y="1138320"/>
              <a:ext cx="1141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32240" y="1138320"/>
              <a:ext cx="9889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50800" y="1824120"/>
              <a:ext cx="60804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60640" y="1824120"/>
              <a:ext cx="37944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865400" y="1824120"/>
              <a:ext cx="60804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75240" y="1824120"/>
              <a:ext cx="7603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122560" y="2662200"/>
              <a:ext cx="1508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4840" y="2662560"/>
              <a:ext cx="379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94160" y="2662560"/>
              <a:ext cx="30312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11680" y="266256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703840" y="2662200"/>
              <a:ext cx="60804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13320" y="2662560"/>
              <a:ext cx="22716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122560" y="3576960"/>
              <a:ext cx="6080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6557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341520" y="3576960"/>
              <a:ext cx="4557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87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560840" y="3576960"/>
              <a:ext cx="2271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3576960"/>
              <a:ext cx="3031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5627520" y="3576960"/>
              <a:ext cx="748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7520" y="3576960"/>
              <a:ext cx="6843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6618240" y="3576960"/>
              <a:ext cx="3031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65428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637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9495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092560" y="47196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092560" y="5634000"/>
              <a:ext cx="1296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1120" y="806760"/>
              <a:ext cx="2966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149256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4120" y="149256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23306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6720" y="23306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6040" y="23306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72200" y="23306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9160" y="3245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0080" y="3245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3245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91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4388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4080" y="4388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560" y="43880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437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438804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560" y="43880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0960" y="43880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37560" y="53024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4440" y="530244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33200" y="530244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52880" y="530244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44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196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3356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70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6236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6760" y="57913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52160" y="583596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33760" y="583596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3625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19440" y="3168720"/>
              <a:ext cx="379440" cy="379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124080" y="959040"/>
              <a:ext cx="912960" cy="37944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1643400"/>
              <a:ext cx="19796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1320" y="1568520"/>
              <a:ext cx="531720" cy="15084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828440" y="1947960"/>
              <a:ext cx="46465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6520" y="2025720"/>
              <a:ext cx="303120" cy="22716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14600" y="2481480"/>
              <a:ext cx="6080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7600" y="2405160"/>
              <a:ext cx="7603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52880" y="2481480"/>
              <a:ext cx="10652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53080" y="2559240"/>
              <a:ext cx="379440" cy="22716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600200" y="2938680"/>
              <a:ext cx="533232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3016440"/>
              <a:ext cx="150840" cy="22716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09680" y="3395880"/>
              <a:ext cx="22716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71800" y="3395880"/>
              <a:ext cx="6080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4800" y="3395880"/>
              <a:ext cx="3794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52880" y="3395880"/>
              <a:ext cx="3794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67280" y="3395880"/>
              <a:ext cx="45576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81680" y="3549960"/>
              <a:ext cx="227160" cy="22680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600200" y="3929400"/>
              <a:ext cx="540864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007160"/>
              <a:ext cx="150840" cy="37944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4538880"/>
              <a:ext cx="4875480" cy="0"/>
            </a:xfrm>
            <a:prstGeom prst="line">
              <a:avLst/>
            </a:prstGeom>
            <a:ln w="50760">
              <a:solidFill>
                <a:srgbClr val="3008c4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Brea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 find the goal closest to the initial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exponential space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43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828440" y="762120"/>
            <a:ext cx="5472720" cy="5435640"/>
            <a:chOff x="1828440" y="762120"/>
            <a:chExt cx="5472720" cy="5435640"/>
          </a:xfrm>
        </p:grpSpPr>
        <p:sp>
          <p:nvSpPr>
            <p:cNvPr id="442" name=""/>
            <p:cNvSpPr/>
            <p:nvPr/>
          </p:nvSpPr>
          <p:spPr>
            <a:xfrm>
              <a:off x="4271760" y="7621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0016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840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4760" y="14479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736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320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76680" y="22860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098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386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7156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530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180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1080" y="3200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192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098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50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1456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38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244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4336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5320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62680" y="43434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192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050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1456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3880" y="5257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276000" y="1138320"/>
              <a:ext cx="1141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19360" y="1138320"/>
              <a:ext cx="98928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437920" y="1824120"/>
              <a:ext cx="6080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47760" y="1824120"/>
              <a:ext cx="37944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952520" y="1824120"/>
              <a:ext cx="6080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360" y="1824120"/>
              <a:ext cx="760680" cy="45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209680" y="2661840"/>
              <a:ext cx="1508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1960" y="2662200"/>
              <a:ext cx="37944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2662200"/>
              <a:ext cx="30312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98800" y="266220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790960" y="2661840"/>
              <a:ext cx="60804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00800" y="2662200"/>
              <a:ext cx="22680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209680" y="3576600"/>
              <a:ext cx="6080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74284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29000" y="3576600"/>
              <a:ext cx="45540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620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647960" y="3576600"/>
              <a:ext cx="22716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560" y="3576600"/>
              <a:ext cx="303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5714640" y="3576600"/>
              <a:ext cx="7452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576600"/>
              <a:ext cx="68400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6705000" y="3576600"/>
              <a:ext cx="303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74140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3512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0370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180040" y="471924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5179680" y="5634000"/>
              <a:ext cx="126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78240" y="806400"/>
              <a:ext cx="2966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7000" y="149220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21600" y="149220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44520" y="23302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4200" y="23302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83160" y="23302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59320" y="23302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6280" y="3244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04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472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912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97560" y="3244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87920" y="3244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162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25400" y="4387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11560" y="4387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21040" y="43876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308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40360" y="4387680"/>
              <a:ext cx="3301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5020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59680" y="43876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8440" y="43876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25040" y="53020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11560" y="5302080"/>
              <a:ext cx="347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20320" y="530208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0000" y="5302080"/>
              <a:ext cx="313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1592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490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1120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0680" y="56833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5420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948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5932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68800" y="4768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3880" y="57913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9640" y="5835600"/>
              <a:ext cx="365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20880" y="583560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39600" y="3625920"/>
              <a:ext cx="4323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124080" y="909720"/>
              <a:ext cx="836640" cy="3794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133360" y="1671480"/>
              <a:ext cx="532080" cy="6080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828440" y="2433600"/>
              <a:ext cx="150840" cy="8366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84200" y="2890800"/>
              <a:ext cx="0" cy="76032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38280" y="2814480"/>
              <a:ext cx="150840" cy="7606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980720" y="3728880"/>
              <a:ext cx="531720" cy="5320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09680" y="3957480"/>
              <a:ext cx="455760" cy="53208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94040" y="3652920"/>
              <a:ext cx="0" cy="91260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94040" y="4719600"/>
              <a:ext cx="0" cy="836640"/>
            </a:xfrm>
            <a:prstGeom prst="line">
              <a:avLst/>
            </a:prstGeom>
            <a:ln w="50760">
              <a:solidFill>
                <a:srgbClr val="550bc1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 limited space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o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oal closest to the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take a very long time before finding a goal that may be close to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4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imited-depth 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FS, but the search is limited to a predefined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he dep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state is recorded as it is generated.  When picking the next state to expand, only those with depth less or equal than the current depth are expan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f we pick a too small depth limit, we may fail to find the ans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at is a good depth lim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4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teratively deepening depth-first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FS, but the search is limited to a predefined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he dep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state is recorded as it is generated.  When picking the next state to expand, only those with depth less or equal than the current depth are expan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blem: what is a good depth lim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swer: make it adaptiv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enerate solutions at depth 1, 2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ll the nodes of a given depth are explored, the current depth is incremen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5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: sissejuhatus otsingualgoritmides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avelling salesman problem (TS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amised otsingualgoritmide 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äiteprogramme ja üks optime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pth-first searchi täiend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samaterjale uurimis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96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Iterative deepening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7920" y="1403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144792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75560" y="12510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03960" y="19368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18560" y="19368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780160" y="1627200"/>
            <a:ext cx="114120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23160" y="1627200"/>
            <a:ext cx="98892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129528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19810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001000" y="19810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18360" y="36133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46760" y="42991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8464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1360" y="429912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0396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9944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2920" y="5137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322960" y="3989520"/>
            <a:ext cx="114120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5960" y="3989520"/>
            <a:ext cx="9889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84160" y="4675320"/>
            <a:ext cx="6080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94360" y="4675320"/>
            <a:ext cx="3794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98760" y="4675320"/>
            <a:ext cx="6080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08960" y="4675320"/>
            <a:ext cx="76032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3657600"/>
            <a:ext cx="296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34340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434340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080" y="518148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51814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05720" y="518148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1880" y="518148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1066680"/>
            <a:ext cx="44956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320040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219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2960" y="213336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3200" y="243792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7880" y="540972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a2da2"/>
                </a:solidFill>
                <a:latin typeface="Times New Roman"/>
                <a:ea typeface="Times New Roman (Hebrew)"/>
              </a:rPr>
              <a:t>Limit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bout iteratively deepening search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ot so bad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 it loo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hy bad: 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e root subtree is computed every time instead of storing i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st of the solutions are in the bo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leaves anyho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+ 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 …+ 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O(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ing the search tak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+1)1 + (d)b + (d - 1)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(1)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O(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= 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nodes searched 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111,1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vs. 123,456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 repeated </a:t>
            </a:r>
            <a:r>
              <a:rPr b="0" i="1" lang="he-I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only 11% mor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59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Travelling salesman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raveller starts from Tallinn, 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visit some cities: New York, London, Tokyo, …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come back to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ll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ity visited exactly once (except first and last city is b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ll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of travel between each pair of cities is giv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o minimize the cost. If possible, fi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ur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ith the le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s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small and simpl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43720" y="1676520"/>
            <a:ext cx="6439680" cy="4442760"/>
            <a:chOff x="1143720" y="1676520"/>
            <a:chExt cx="6439680" cy="4442760"/>
          </a:xfrm>
        </p:grpSpPr>
        <p:sp>
          <p:nvSpPr>
            <p:cNvPr id="102" name=""/>
            <p:cNvSpPr/>
            <p:nvPr/>
          </p:nvSpPr>
          <p:spPr>
            <a:xfrm>
              <a:off x="1877760" y="1676520"/>
              <a:ext cx="3484800" cy="4114800"/>
            </a:xfrm>
            <a:custGeom>
              <a:avLst/>
              <a:gdLst/>
              <a:ahLst/>
              <a:rect l="l" t="t" r="r" b="b"/>
              <a:pathLst>
                <a:path w="2195" h="2592">
                  <a:moveTo>
                    <a:pt x="471" y="337"/>
                  </a:moveTo>
                  <a:cubicBezTo>
                    <a:pt x="510" y="324"/>
                    <a:pt x="535" y="305"/>
                    <a:pt x="576" y="295"/>
                  </a:cubicBezTo>
                  <a:cubicBezTo>
                    <a:pt x="627" y="315"/>
                    <a:pt x="644" y="342"/>
                    <a:pt x="682" y="305"/>
                  </a:cubicBezTo>
                  <a:cubicBezTo>
                    <a:pt x="772" y="312"/>
                    <a:pt x="847" y="324"/>
                    <a:pt x="934" y="337"/>
                  </a:cubicBezTo>
                  <a:cubicBezTo>
                    <a:pt x="988" y="372"/>
                    <a:pt x="997" y="354"/>
                    <a:pt x="1029" y="305"/>
                  </a:cubicBezTo>
                  <a:cubicBezTo>
                    <a:pt x="1019" y="227"/>
                    <a:pt x="990" y="189"/>
                    <a:pt x="1071" y="168"/>
                  </a:cubicBezTo>
                  <a:cubicBezTo>
                    <a:pt x="1137" y="35"/>
                    <a:pt x="1153" y="63"/>
                    <a:pt x="1324" y="53"/>
                  </a:cubicBezTo>
                  <a:cubicBezTo>
                    <a:pt x="1374" y="35"/>
                    <a:pt x="1419" y="14"/>
                    <a:pt x="1471" y="32"/>
                  </a:cubicBezTo>
                  <a:cubicBezTo>
                    <a:pt x="1536" y="18"/>
                    <a:pt x="1509" y="31"/>
                    <a:pt x="1555" y="0"/>
                  </a:cubicBezTo>
                  <a:cubicBezTo>
                    <a:pt x="1575" y="2"/>
                    <a:pt x="1688" y="7"/>
                    <a:pt x="1713" y="32"/>
                  </a:cubicBezTo>
                  <a:cubicBezTo>
                    <a:pt x="1732" y="51"/>
                    <a:pt x="1734" y="81"/>
                    <a:pt x="1745" y="105"/>
                  </a:cubicBezTo>
                  <a:cubicBezTo>
                    <a:pt x="1735" y="154"/>
                    <a:pt x="1714" y="184"/>
                    <a:pt x="1703" y="232"/>
                  </a:cubicBezTo>
                  <a:cubicBezTo>
                    <a:pt x="1706" y="256"/>
                    <a:pt x="1705" y="282"/>
                    <a:pt x="1713" y="305"/>
                  </a:cubicBezTo>
                  <a:cubicBezTo>
                    <a:pt x="1719" y="322"/>
                    <a:pt x="1743" y="329"/>
                    <a:pt x="1745" y="347"/>
                  </a:cubicBezTo>
                  <a:cubicBezTo>
                    <a:pt x="1748" y="376"/>
                    <a:pt x="1731" y="404"/>
                    <a:pt x="1724" y="432"/>
                  </a:cubicBezTo>
                  <a:cubicBezTo>
                    <a:pt x="1741" y="1036"/>
                    <a:pt x="1704" y="622"/>
                    <a:pt x="1755" y="874"/>
                  </a:cubicBezTo>
                  <a:cubicBezTo>
                    <a:pt x="1762" y="909"/>
                    <a:pt x="1751" y="954"/>
                    <a:pt x="1776" y="979"/>
                  </a:cubicBezTo>
                  <a:cubicBezTo>
                    <a:pt x="1801" y="1004"/>
                    <a:pt x="1835" y="1018"/>
                    <a:pt x="1861" y="1042"/>
                  </a:cubicBezTo>
                  <a:cubicBezTo>
                    <a:pt x="1873" y="1128"/>
                    <a:pt x="1901" y="1209"/>
                    <a:pt x="1913" y="1295"/>
                  </a:cubicBezTo>
                  <a:cubicBezTo>
                    <a:pt x="1927" y="1392"/>
                    <a:pt x="1900" y="1363"/>
                    <a:pt x="1955" y="1400"/>
                  </a:cubicBezTo>
                  <a:cubicBezTo>
                    <a:pt x="1959" y="1456"/>
                    <a:pt x="1957" y="1513"/>
                    <a:pt x="1966" y="1569"/>
                  </a:cubicBezTo>
                  <a:cubicBezTo>
                    <a:pt x="1971" y="1598"/>
                    <a:pt x="1989" y="1624"/>
                    <a:pt x="1997" y="1653"/>
                  </a:cubicBezTo>
                  <a:cubicBezTo>
                    <a:pt x="2011" y="1701"/>
                    <a:pt x="2022" y="1750"/>
                    <a:pt x="2029" y="1800"/>
                  </a:cubicBezTo>
                  <a:cubicBezTo>
                    <a:pt x="2038" y="1870"/>
                    <a:pt x="2042" y="1899"/>
                    <a:pt x="2071" y="1958"/>
                  </a:cubicBezTo>
                  <a:cubicBezTo>
                    <a:pt x="1947" y="2002"/>
                    <a:pt x="2195" y="1917"/>
                    <a:pt x="1808" y="1979"/>
                  </a:cubicBezTo>
                  <a:cubicBezTo>
                    <a:pt x="1793" y="1981"/>
                    <a:pt x="1789" y="2003"/>
                    <a:pt x="1776" y="2011"/>
                  </a:cubicBezTo>
                  <a:cubicBezTo>
                    <a:pt x="1767" y="2017"/>
                    <a:pt x="1755" y="2018"/>
                    <a:pt x="1745" y="2021"/>
                  </a:cubicBezTo>
                  <a:cubicBezTo>
                    <a:pt x="1698" y="2068"/>
                    <a:pt x="1690" y="2103"/>
                    <a:pt x="1671" y="2169"/>
                  </a:cubicBezTo>
                  <a:cubicBezTo>
                    <a:pt x="1657" y="2269"/>
                    <a:pt x="1666" y="2326"/>
                    <a:pt x="1566" y="2390"/>
                  </a:cubicBezTo>
                  <a:cubicBezTo>
                    <a:pt x="1548" y="2401"/>
                    <a:pt x="1524" y="2397"/>
                    <a:pt x="1503" y="2400"/>
                  </a:cubicBezTo>
                  <a:cubicBezTo>
                    <a:pt x="1492" y="2407"/>
                    <a:pt x="1483" y="2417"/>
                    <a:pt x="1471" y="2421"/>
                  </a:cubicBezTo>
                  <a:cubicBezTo>
                    <a:pt x="1444" y="2431"/>
                    <a:pt x="1387" y="2442"/>
                    <a:pt x="1387" y="2442"/>
                  </a:cubicBezTo>
                  <a:cubicBezTo>
                    <a:pt x="1336" y="2477"/>
                    <a:pt x="1288" y="2494"/>
                    <a:pt x="1229" y="2516"/>
                  </a:cubicBezTo>
                  <a:cubicBezTo>
                    <a:pt x="1215" y="2527"/>
                    <a:pt x="1202" y="2539"/>
                    <a:pt x="1187" y="2548"/>
                  </a:cubicBezTo>
                  <a:cubicBezTo>
                    <a:pt x="1160" y="2564"/>
                    <a:pt x="1103" y="2590"/>
                    <a:pt x="1103" y="2590"/>
                  </a:cubicBezTo>
                  <a:cubicBezTo>
                    <a:pt x="1089" y="2586"/>
                    <a:pt x="1068" y="2592"/>
                    <a:pt x="1060" y="2579"/>
                  </a:cubicBezTo>
                  <a:cubicBezTo>
                    <a:pt x="1038" y="2545"/>
                    <a:pt x="1056" y="2453"/>
                    <a:pt x="1060" y="2421"/>
                  </a:cubicBezTo>
                  <a:cubicBezTo>
                    <a:pt x="1046" y="2397"/>
                    <a:pt x="1029" y="2374"/>
                    <a:pt x="1018" y="2348"/>
                  </a:cubicBezTo>
                  <a:cubicBezTo>
                    <a:pt x="1008" y="2324"/>
                    <a:pt x="1008" y="2297"/>
                    <a:pt x="997" y="2274"/>
                  </a:cubicBezTo>
                  <a:cubicBezTo>
                    <a:pt x="983" y="2245"/>
                    <a:pt x="956" y="2239"/>
                    <a:pt x="934" y="2221"/>
                  </a:cubicBezTo>
                  <a:cubicBezTo>
                    <a:pt x="883" y="2179"/>
                    <a:pt x="831" y="2142"/>
                    <a:pt x="776" y="2106"/>
                  </a:cubicBezTo>
                  <a:cubicBezTo>
                    <a:pt x="732" y="2077"/>
                    <a:pt x="671" y="2100"/>
                    <a:pt x="618" y="2095"/>
                  </a:cubicBezTo>
                  <a:cubicBezTo>
                    <a:pt x="590" y="2092"/>
                    <a:pt x="562" y="2088"/>
                    <a:pt x="534" y="2084"/>
                  </a:cubicBezTo>
                  <a:cubicBezTo>
                    <a:pt x="519" y="2005"/>
                    <a:pt x="516" y="1948"/>
                    <a:pt x="429" y="1927"/>
                  </a:cubicBezTo>
                  <a:cubicBezTo>
                    <a:pt x="370" y="1838"/>
                    <a:pt x="246" y="1894"/>
                    <a:pt x="155" y="1916"/>
                  </a:cubicBezTo>
                  <a:cubicBezTo>
                    <a:pt x="152" y="1927"/>
                    <a:pt x="154" y="1941"/>
                    <a:pt x="145" y="1948"/>
                  </a:cubicBezTo>
                  <a:cubicBezTo>
                    <a:pt x="127" y="1961"/>
                    <a:pt x="102" y="1962"/>
                    <a:pt x="81" y="1969"/>
                  </a:cubicBezTo>
                  <a:cubicBezTo>
                    <a:pt x="69" y="1973"/>
                    <a:pt x="61" y="1984"/>
                    <a:pt x="50" y="1990"/>
                  </a:cubicBezTo>
                  <a:cubicBezTo>
                    <a:pt x="40" y="1995"/>
                    <a:pt x="29" y="1997"/>
                    <a:pt x="18" y="2000"/>
                  </a:cubicBezTo>
                  <a:cubicBezTo>
                    <a:pt x="2" y="1932"/>
                    <a:pt x="0" y="1977"/>
                    <a:pt x="50" y="1916"/>
                  </a:cubicBezTo>
                  <a:cubicBezTo>
                    <a:pt x="69" y="1893"/>
                    <a:pt x="103" y="1842"/>
                    <a:pt x="103" y="1842"/>
                  </a:cubicBezTo>
                  <a:cubicBezTo>
                    <a:pt x="112" y="1815"/>
                    <a:pt x="140" y="1797"/>
                    <a:pt x="145" y="1769"/>
                  </a:cubicBezTo>
                  <a:cubicBezTo>
                    <a:pt x="154" y="1721"/>
                    <a:pt x="130" y="1612"/>
                    <a:pt x="176" y="1558"/>
                  </a:cubicBezTo>
                  <a:cubicBezTo>
                    <a:pt x="200" y="1530"/>
                    <a:pt x="251" y="1515"/>
                    <a:pt x="282" y="1495"/>
                  </a:cubicBezTo>
                  <a:cubicBezTo>
                    <a:pt x="313" y="1498"/>
                    <a:pt x="345" y="1499"/>
                    <a:pt x="376" y="1505"/>
                  </a:cubicBezTo>
                  <a:cubicBezTo>
                    <a:pt x="404" y="1510"/>
                    <a:pt x="460" y="1527"/>
                    <a:pt x="460" y="1527"/>
                  </a:cubicBezTo>
                  <a:cubicBezTo>
                    <a:pt x="496" y="1561"/>
                    <a:pt x="501" y="1541"/>
                    <a:pt x="545" y="1527"/>
                  </a:cubicBezTo>
                  <a:cubicBezTo>
                    <a:pt x="531" y="1444"/>
                    <a:pt x="535" y="1366"/>
                    <a:pt x="555" y="1284"/>
                  </a:cubicBezTo>
                  <a:cubicBezTo>
                    <a:pt x="544" y="1207"/>
                    <a:pt x="520" y="1131"/>
                    <a:pt x="524" y="1053"/>
                  </a:cubicBezTo>
                  <a:cubicBezTo>
                    <a:pt x="529" y="957"/>
                    <a:pt x="575" y="871"/>
                    <a:pt x="597" y="779"/>
                  </a:cubicBezTo>
                  <a:cubicBezTo>
                    <a:pt x="586" y="712"/>
                    <a:pt x="581" y="698"/>
                    <a:pt x="534" y="653"/>
                  </a:cubicBezTo>
                  <a:cubicBezTo>
                    <a:pt x="527" y="628"/>
                    <a:pt x="527" y="600"/>
                    <a:pt x="513" y="579"/>
                  </a:cubicBezTo>
                  <a:cubicBezTo>
                    <a:pt x="504" y="566"/>
                    <a:pt x="481" y="570"/>
                    <a:pt x="471" y="558"/>
                  </a:cubicBezTo>
                  <a:cubicBezTo>
                    <a:pt x="454" y="538"/>
                    <a:pt x="458" y="508"/>
                    <a:pt x="450" y="484"/>
                  </a:cubicBezTo>
                  <a:cubicBezTo>
                    <a:pt x="458" y="459"/>
                    <a:pt x="479" y="437"/>
                    <a:pt x="482" y="411"/>
                  </a:cubicBezTo>
                  <a:cubicBezTo>
                    <a:pt x="484" y="386"/>
                    <a:pt x="475" y="362"/>
                    <a:pt x="471" y="33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809800"/>
              <a:ext cx="1887480" cy="430200"/>
            </a:xfrm>
            <a:custGeom>
              <a:avLst/>
              <a:gdLst/>
              <a:ahLst/>
              <a:rect l="l" t="t" r="r" b="b"/>
              <a:pathLst>
                <a:path w="1189" h="271">
                  <a:moveTo>
                    <a:pt x="0" y="223"/>
                  </a:moveTo>
                  <a:cubicBezTo>
                    <a:pt x="113" y="234"/>
                    <a:pt x="260" y="271"/>
                    <a:pt x="337" y="170"/>
                  </a:cubicBezTo>
                  <a:cubicBezTo>
                    <a:pt x="438" y="185"/>
                    <a:pt x="527" y="209"/>
                    <a:pt x="631" y="223"/>
                  </a:cubicBezTo>
                  <a:cubicBezTo>
                    <a:pt x="646" y="179"/>
                    <a:pt x="615" y="113"/>
                    <a:pt x="652" y="86"/>
                  </a:cubicBezTo>
                  <a:cubicBezTo>
                    <a:pt x="681" y="65"/>
                    <a:pt x="723" y="98"/>
                    <a:pt x="758" y="107"/>
                  </a:cubicBezTo>
                  <a:cubicBezTo>
                    <a:pt x="801" y="119"/>
                    <a:pt x="884" y="149"/>
                    <a:pt x="884" y="149"/>
                  </a:cubicBezTo>
                  <a:cubicBezTo>
                    <a:pt x="891" y="139"/>
                    <a:pt x="902" y="130"/>
                    <a:pt x="905" y="118"/>
                  </a:cubicBezTo>
                  <a:cubicBezTo>
                    <a:pt x="938" y="0"/>
                    <a:pt x="867" y="28"/>
                    <a:pt x="1021" y="44"/>
                  </a:cubicBezTo>
                  <a:cubicBezTo>
                    <a:pt x="1031" y="65"/>
                    <a:pt x="1043" y="86"/>
                    <a:pt x="1052" y="107"/>
                  </a:cubicBezTo>
                  <a:cubicBezTo>
                    <a:pt x="1057" y="117"/>
                    <a:pt x="1052" y="139"/>
                    <a:pt x="1063" y="139"/>
                  </a:cubicBezTo>
                  <a:cubicBezTo>
                    <a:pt x="1074" y="139"/>
                    <a:pt x="1068" y="117"/>
                    <a:pt x="1073" y="107"/>
                  </a:cubicBezTo>
                  <a:cubicBezTo>
                    <a:pt x="1079" y="96"/>
                    <a:pt x="1087" y="86"/>
                    <a:pt x="1094" y="76"/>
                  </a:cubicBezTo>
                  <a:cubicBezTo>
                    <a:pt x="1182" y="98"/>
                    <a:pt x="1150" y="97"/>
                    <a:pt x="1189" y="9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0680" y="2695680"/>
              <a:ext cx="2003400" cy="2466720"/>
            </a:xfrm>
            <a:custGeom>
              <a:avLst/>
              <a:gdLst/>
              <a:ahLst/>
              <a:rect l="l" t="t" r="r" b="b"/>
              <a:pathLst>
                <a:path w="1262" h="1554">
                  <a:moveTo>
                    <a:pt x="0" y="169"/>
                  </a:moveTo>
                  <a:cubicBezTo>
                    <a:pt x="49" y="172"/>
                    <a:pt x="100" y="166"/>
                    <a:pt x="148" y="179"/>
                  </a:cubicBezTo>
                  <a:cubicBezTo>
                    <a:pt x="190" y="191"/>
                    <a:pt x="189" y="243"/>
                    <a:pt x="221" y="263"/>
                  </a:cubicBezTo>
                  <a:cubicBezTo>
                    <a:pt x="246" y="279"/>
                    <a:pt x="278" y="275"/>
                    <a:pt x="306" y="284"/>
                  </a:cubicBezTo>
                  <a:cubicBezTo>
                    <a:pt x="368" y="326"/>
                    <a:pt x="386" y="314"/>
                    <a:pt x="463" y="295"/>
                  </a:cubicBezTo>
                  <a:cubicBezTo>
                    <a:pt x="484" y="281"/>
                    <a:pt x="506" y="267"/>
                    <a:pt x="527" y="253"/>
                  </a:cubicBezTo>
                  <a:cubicBezTo>
                    <a:pt x="539" y="245"/>
                    <a:pt x="555" y="247"/>
                    <a:pt x="569" y="242"/>
                  </a:cubicBezTo>
                  <a:cubicBezTo>
                    <a:pt x="613" y="225"/>
                    <a:pt x="610" y="222"/>
                    <a:pt x="642" y="190"/>
                  </a:cubicBezTo>
                  <a:cubicBezTo>
                    <a:pt x="667" y="113"/>
                    <a:pt x="709" y="28"/>
                    <a:pt x="790" y="0"/>
                  </a:cubicBezTo>
                  <a:cubicBezTo>
                    <a:pt x="809" y="20"/>
                    <a:pt x="823" y="44"/>
                    <a:pt x="842" y="63"/>
                  </a:cubicBezTo>
                  <a:cubicBezTo>
                    <a:pt x="876" y="97"/>
                    <a:pt x="900" y="107"/>
                    <a:pt x="927" y="148"/>
                  </a:cubicBezTo>
                  <a:cubicBezTo>
                    <a:pt x="951" y="223"/>
                    <a:pt x="943" y="304"/>
                    <a:pt x="969" y="379"/>
                  </a:cubicBezTo>
                  <a:cubicBezTo>
                    <a:pt x="972" y="435"/>
                    <a:pt x="961" y="495"/>
                    <a:pt x="979" y="548"/>
                  </a:cubicBezTo>
                  <a:cubicBezTo>
                    <a:pt x="993" y="589"/>
                    <a:pt x="1083" y="599"/>
                    <a:pt x="1116" y="611"/>
                  </a:cubicBezTo>
                  <a:cubicBezTo>
                    <a:pt x="1262" y="827"/>
                    <a:pt x="1115" y="598"/>
                    <a:pt x="1158" y="1306"/>
                  </a:cubicBezTo>
                  <a:cubicBezTo>
                    <a:pt x="1160" y="1334"/>
                    <a:pt x="1187" y="1354"/>
                    <a:pt x="1200" y="1379"/>
                  </a:cubicBezTo>
                  <a:cubicBezTo>
                    <a:pt x="1211" y="1432"/>
                    <a:pt x="1229" y="1459"/>
                    <a:pt x="1253" y="1506"/>
                  </a:cubicBezTo>
                  <a:cubicBezTo>
                    <a:pt x="1249" y="1520"/>
                    <a:pt x="1255" y="1542"/>
                    <a:pt x="1242" y="1548"/>
                  </a:cubicBezTo>
                  <a:cubicBezTo>
                    <a:pt x="1231" y="1554"/>
                    <a:pt x="1222" y="1533"/>
                    <a:pt x="1211" y="1527"/>
                  </a:cubicBezTo>
                  <a:cubicBezTo>
                    <a:pt x="1170" y="1506"/>
                    <a:pt x="1129" y="1490"/>
                    <a:pt x="1085" y="1474"/>
                  </a:cubicBezTo>
                  <a:cubicBezTo>
                    <a:pt x="1048" y="1439"/>
                    <a:pt x="1008" y="1440"/>
                    <a:pt x="958" y="1432"/>
                  </a:cubicBezTo>
                  <a:cubicBezTo>
                    <a:pt x="944" y="1425"/>
                    <a:pt x="931" y="1417"/>
                    <a:pt x="916" y="1411"/>
                  </a:cubicBezTo>
                  <a:cubicBezTo>
                    <a:pt x="902" y="1406"/>
                    <a:pt x="886" y="1408"/>
                    <a:pt x="874" y="1400"/>
                  </a:cubicBezTo>
                  <a:cubicBezTo>
                    <a:pt x="864" y="1393"/>
                    <a:pt x="863" y="1376"/>
                    <a:pt x="853" y="1369"/>
                  </a:cubicBezTo>
                  <a:cubicBezTo>
                    <a:pt x="827" y="1351"/>
                    <a:pt x="769" y="1327"/>
                    <a:pt x="769" y="1327"/>
                  </a:cubicBezTo>
                  <a:cubicBezTo>
                    <a:pt x="726" y="1348"/>
                    <a:pt x="685" y="1358"/>
                    <a:pt x="642" y="1379"/>
                  </a:cubicBezTo>
                  <a:cubicBezTo>
                    <a:pt x="595" y="1372"/>
                    <a:pt x="560" y="1362"/>
                    <a:pt x="516" y="1348"/>
                  </a:cubicBezTo>
                  <a:cubicBezTo>
                    <a:pt x="468" y="1300"/>
                    <a:pt x="460" y="1305"/>
                    <a:pt x="390" y="1316"/>
                  </a:cubicBezTo>
                  <a:cubicBezTo>
                    <a:pt x="379" y="1323"/>
                    <a:pt x="371" y="1336"/>
                    <a:pt x="358" y="1337"/>
                  </a:cubicBezTo>
                  <a:cubicBezTo>
                    <a:pt x="269" y="1347"/>
                    <a:pt x="285" y="1337"/>
                    <a:pt x="306" y="131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5560" y="4125960"/>
              <a:ext cx="2206800" cy="691920"/>
            </a:xfrm>
            <a:custGeom>
              <a:avLst/>
              <a:gdLst/>
              <a:ahLst/>
              <a:rect l="l" t="t" r="r" b="b"/>
              <a:pathLst>
                <a:path w="1390" h="436">
                  <a:moveTo>
                    <a:pt x="0" y="5"/>
                  </a:moveTo>
                  <a:cubicBezTo>
                    <a:pt x="39" y="8"/>
                    <a:pt x="80" y="0"/>
                    <a:pt x="116" y="15"/>
                  </a:cubicBezTo>
                  <a:cubicBezTo>
                    <a:pt x="213" y="55"/>
                    <a:pt x="146" y="125"/>
                    <a:pt x="221" y="152"/>
                  </a:cubicBezTo>
                  <a:cubicBezTo>
                    <a:pt x="337" y="140"/>
                    <a:pt x="363" y="131"/>
                    <a:pt x="484" y="141"/>
                  </a:cubicBezTo>
                  <a:cubicBezTo>
                    <a:pt x="604" y="166"/>
                    <a:pt x="488" y="129"/>
                    <a:pt x="558" y="184"/>
                  </a:cubicBezTo>
                  <a:cubicBezTo>
                    <a:pt x="602" y="219"/>
                    <a:pt x="670" y="200"/>
                    <a:pt x="727" y="205"/>
                  </a:cubicBezTo>
                  <a:cubicBezTo>
                    <a:pt x="788" y="246"/>
                    <a:pt x="725" y="215"/>
                    <a:pt x="800" y="215"/>
                  </a:cubicBezTo>
                  <a:cubicBezTo>
                    <a:pt x="874" y="215"/>
                    <a:pt x="947" y="222"/>
                    <a:pt x="1021" y="226"/>
                  </a:cubicBezTo>
                  <a:cubicBezTo>
                    <a:pt x="1089" y="294"/>
                    <a:pt x="1129" y="275"/>
                    <a:pt x="1221" y="289"/>
                  </a:cubicBezTo>
                  <a:cubicBezTo>
                    <a:pt x="1261" y="327"/>
                    <a:pt x="1295" y="361"/>
                    <a:pt x="1348" y="373"/>
                  </a:cubicBezTo>
                  <a:cubicBezTo>
                    <a:pt x="1358" y="380"/>
                    <a:pt x="1372" y="384"/>
                    <a:pt x="1379" y="394"/>
                  </a:cubicBezTo>
                  <a:cubicBezTo>
                    <a:pt x="1387" y="406"/>
                    <a:pt x="1390" y="436"/>
                    <a:pt x="1390" y="4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0402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47260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4960" y="5716440"/>
              <a:ext cx="152640" cy="1526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47260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6760" y="5030640"/>
              <a:ext cx="152640" cy="1526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0960" y="2668680"/>
              <a:ext cx="15264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5680" y="19828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560" y="2135160"/>
              <a:ext cx="15264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31258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2897280"/>
              <a:ext cx="152280" cy="15228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43560" y="565956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Muddy G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1800" y="48211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Casp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86040" y="51260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Doug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1440" y="238284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Gillett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2200" y="25160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Buffa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08800" y="16970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Sherid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960" y="192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Greybu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31720" y="29163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Worl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04760" y="36021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Shoshon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720" y="480204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Times New Roman"/>
                </a:rPr>
                <a:t>Lan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0200" y="838080"/>
            <a:ext cx="43855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Part of Wyoming’s (a USA State) </a:t>
            </a:r>
            <a:br>
              <a:rPr sz="2400"/>
            </a:br>
            <a:r>
              <a:rPr b="0" lang="th-TH" sz="2400" spc="-1" strike="noStrike">
                <a:solidFill>
                  <a:srgbClr val="ffffff"/>
                </a:solidFill>
                <a:latin typeface="Times New Roman"/>
              </a:rPr>
              <a:t>Road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bit b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080" y="1143000"/>
            <a:ext cx="24454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4 cities of Q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qapoints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39732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a bit b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0" y="1143000"/>
            <a:ext cx="24696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atar optimal T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qatour" descr=""/>
          <p:cNvPicPr/>
          <p:nvPr/>
        </p:nvPicPr>
        <p:blipFill>
          <a:blip r:embed="rId1"/>
          <a:stretch/>
        </p:blipFill>
        <p:spPr>
          <a:xfrm>
            <a:off x="1028880" y="838080"/>
            <a:ext cx="4752720" cy="541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Finlan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639400" y="1143000"/>
            <a:ext cx="362808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106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very good, but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erfec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fitour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7977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eli linna ja reisimise hind nende vah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1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3048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880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4640" y="1736640"/>
            <a:ext cx="2833560" cy="25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atic int dist[][] =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{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}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5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}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4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}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3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6,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}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0720" y="43038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0     1     2   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2240" y="220968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grammi näitemaatriks linnade vah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imalik tee 1: linnad 0,2,3,1,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ind: 4+6+9+5 = 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47920" y="228600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9528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20968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251460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5181480"/>
            <a:ext cx="2667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74320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666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980720" y="2666880"/>
            <a:ext cx="266724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2743200"/>
            <a:ext cx="281916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2041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7400" y="524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19720" y="3565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860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8195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33412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05520" y="274284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057040" y="228600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1-07T07:33:48Z</dcterms:modified>
  <cp:revision>24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